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CF3-D6A7-49B2-84CD-FF96F943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57B-1B02-48E5-B77D-874DE97A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91C7-964D-41F7-8147-8D7D6AEE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7F99-6B3E-4BAC-8226-9E76B809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4C7A-998B-40A3-BC5E-F228FD60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FEF5-7031-438C-8795-2B447EB1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B024-009D-4B23-AD2E-52680B3A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89BE-0FA0-464B-A16C-4586B614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AA5D-FF20-42CB-BA6B-777F1C0A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0C0F-5C8D-4F6C-884F-EBC7F48C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48BF-45CA-4D5A-96B5-C9BE020F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F00-E80E-44CF-9637-36513164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B9DB-1B34-44E9-8DDF-3AA24837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2C07-ECAC-4072-A87A-87D727E3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A2E1-175B-4513-9B02-99ED1D54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43E5-1489-41BD-96A3-85DA7809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5A67-EC23-4D19-BA4B-F6D0D1A7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3EB-72A6-453F-BED5-87E502AD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9C6-BA23-44B7-A2E0-2960AE72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D5EA-1109-4268-B5A0-57B3E4D5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C0D-482B-4744-8463-6E47FA86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263-B84D-40AC-B2E9-5EC177E4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315-EE76-4843-9CB7-289C151C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D12-F585-4EF0-9037-588B62B6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254E-8F7A-492A-BAA5-B43CB98DBB7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2ECE-4489-4CFF-BE45-63F3794307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Origins of </a:t>
            </a:r>
            <a:r>
              <a:rPr b="0" i="1" lang="en-US" sz="5400" spc="-1" strike="noStrike">
                <a:solidFill>
                  <a:srgbClr val="dbbd71"/>
                </a:solidFill>
                <a:latin typeface="Arial"/>
              </a:rPr>
              <a:t>Hamle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nd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end.  Hootie says hi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9880" y="53352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 is widely accepted that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Hamle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as the play that ensured Shakespeare’s immortalit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play has become synonymous with REVENGE, but that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totally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esn’t do it justic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74560" y="1600200"/>
            <a:ext cx="306072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4952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aml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s NOT Shakespeare’s inven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ch of his audience would already have been familiar with the st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kespeare makes the plot subordinate to character development and the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3452760" cy="4648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bbd71"/>
                </a:solidFill>
                <a:latin typeface="Arial"/>
              </a:rPr>
              <a:t>Ur-Hamle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tle refers to all previous incarnations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aml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nd also to Francois Belleforest’s rendition of the st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aml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oes have Scandinavian origi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3560" y="1752480"/>
            <a:ext cx="3273480" cy="4038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bbd71"/>
                </a:solidFill>
                <a:latin typeface="Arial"/>
              </a:rPr>
              <a:t>Hamlet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timel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 – earliest known refence to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aml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egend, in an Icelandic po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 –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istoriae Danica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y historian Saxo Grammaticus.  Hamlet was called Amle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70 – Belleforest’s version appears in his colle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istoires Tragiq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90 – Thomas Kyd’s production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aml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popular in Eng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03 – First production of Shakespeare’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amlet, Prince of Denmar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volution of the sto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 the Norse legend, Hamlet, or Amlothi, translates to “desperate in battle” or “simpleton”, indicating that a motif of madness was already in pla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axo’s version includes feigned madness, the pursuit of a courtesan (early Ophelia), and Hamlet kills the king of Norway in single comba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urther evolution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lleforest’s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Ur-Hamle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includes the dumb show (Act III), the fencing match, incest, and the gho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ever, all the earlier incarnations focus rather simply on revenge and bloodlust.  Even Belleforest’s ghost is a simple figure, causing none of the metaphysical angst that we see in Billy Shakes’ pla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ood for thought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!  If the plot wasn’t fresh or new, what  dramatic element should require the most consideration from the audienc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606760" cy="3733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Keep the question of </a:t>
            </a:r>
            <a:r>
              <a:rPr b="0" i="1" lang="en-US" sz="4000" spc="-1" strike="noStrike">
                <a:solidFill>
                  <a:srgbClr val="dbbd71"/>
                </a:solidFill>
                <a:latin typeface="Arial"/>
              </a:rPr>
              <a:t>Hamlet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’s legacy in the back of your mind, as this will be the subject of your final analytical essay for this unit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(Shoulda seen it coming…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611520" y="3962520"/>
            <a:ext cx="2189160" cy="2590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2:56:39Z</dcterms:created>
  <dc:creator>Lawrence Public Schools</dc:creator>
  <dc:description/>
  <dc:language>en-US</dc:language>
  <cp:lastModifiedBy>Lawrence Public Schools</cp:lastModifiedBy>
  <dcterms:modified xsi:type="dcterms:W3CDTF">2008-03-13T13:25:33Z</dcterms:modified>
  <cp:revision>2</cp:revision>
  <dc:subject/>
  <dc:title>Origins of Hamlet</dc:title>
</cp:coreProperties>
</file>